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E23-5389-41EB-BFF8-ADC12DA7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1EC-725F-4933-9168-F11D971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D3B-D442-4845-B885-82CFC3D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BD6-CC4F-446E-A556-0D043A03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F71-0101-4424-84A1-072E4FA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B46-423E-48FA-8126-46C89000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1F0-3E20-45D9-922C-E0B0C88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8E7-2C17-409B-826D-2308481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FC1-36D8-4271-869B-99C9BEC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401-055D-445B-9EDC-869424A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FD4-0705-4862-A20E-FDA35B5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A27-ACF4-4777-AD73-2F901E3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E46-0A76-4FD4-9708-8CA60ED3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7200" y="981000"/>
            <a:ext cx="6400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В Тебе сме едно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в Твоя Дух и в любовта Ти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ие сме едно в Теб сега -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а познае света, че даде Своя Син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Отче, в Теб ние сме едно ! /3/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4:29:18Z</dcterms:created>
  <dc:creator>TrifonTrifonow</dc:creator>
  <dc:description/>
  <dc:language>en-US</dc:language>
  <cp:lastModifiedBy>TrifonTrifonow</cp:lastModifiedBy>
  <dcterms:modified xsi:type="dcterms:W3CDTF">2005-12-28T04:30:26Z</dcterms:modified>
  <cp:revision>1</cp:revision>
  <dc:subject/>
  <dc:title>Slide 1</dc:title>
</cp:coreProperties>
</file>